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C8E-83AE-48C0-851F-A0406E59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165-D2B3-4268-9DEE-0205D286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251-3667-4236-A523-8BCD6D2D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F78-0100-4F83-A177-3FE06B7B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B67-3919-4FC8-AD39-07CA795E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CF1-C0F4-4539-8FE5-56640586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55D9-A65F-41F0-9594-46709BBA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E4EB-23B2-4D56-9999-8E3F7BC7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BAC9-77E5-4A21-B109-1ACA40D5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D804-8AB2-46E1-8566-70C2BB18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FAF-1CF8-4060-9FF3-4D5F0215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32C9-81E9-42B2-9C18-5321606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F18-BE45-4536-8850-DAF23D34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A4CF-FC2B-48BB-817B-8EE4C778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CB39-EEC6-48C7-AF6F-B348BDE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7F5B-62A4-4ADA-A14B-683C39A1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C84-E0C4-4E53-AF4C-E5D4EE71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00F9-054D-4E6C-B9A4-10A91054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A4E-B935-4A57-99D9-9D0EEE2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58D-FCE7-40D2-8319-09BC2375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54B-680D-4F4C-98C9-79EC20D3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DA6-D172-4AF5-8C6F-465FAC3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E56-2357-46E1-94DC-F2FA816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E59-5B7A-44E4-B04E-048AAA2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28C-3C12-492D-A5E2-3C8CFF6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A94B-12C7-44BF-B79D-035E815E33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866-2ECB-464F-BB38-9CAD07FE17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9/images/large/07f1.jpe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Appar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Valve leaf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e tendin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myocardium and LA wall adjacent to the Papillary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second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, old MI, ischemic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dilated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ced aortic valv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ve heart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cardiac disease that leads to LV dila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ues that MR is second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G = Severe LVH,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ythm is NSR  ( not a fib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is not disproportionately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is low  ( uncommon in primary MR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ppear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l wall motion abnormalities on Echo, MI on E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acute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involving the valve leaflets, cordae tendineae or annul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( idiopathic ) rupture of c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pture of diseased cordae ie. Collagen vascular disease , Marfanoid state, RHD or MV prolapse syndr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ute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778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Chronic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causes of acute primary MR may progress to chronic primary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prolapse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R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7296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ongated anterior MV Leaf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56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Prolap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yxomatous M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334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Examples of ECHO in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D. MV thick  and some 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= vege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l rupture =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↑ leaflet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MVP often causes hammocking or posterior motion of leafl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Failure of  leaflets to close completely suggests papillary m. dysfunction or a markedly ↑ LV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423720"/>
            <a:ext cx="76201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hophysiology of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volumetric contraction phase ab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load greatly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V dilatation occurs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 in f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initially ↑ and remains high or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falls very late in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A slowly dilates and may be enor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CO well p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ymptoms may not occur for many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evere LVH does no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832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21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457200"/>
            <a:ext cx="662940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IN CHRONIC PRIMARY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al fibrillation is very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 NSR P wave broadens to greater  than 0.12 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wave be notched and have a large negative component in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ulmonary hypertension present, RVH, tall R in V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LVH ( one should never see severe LVH if only Chronic MR present )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ptoms of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re related to the decrease in forward effective cardiac output and LA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ness,fatigue and poor exercise tole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ailure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heart failure ( less comm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mboem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61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09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3822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Exam in chronic primary 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rterial puls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in volume but is brisk (reflecting high EF).  Pulse pressure usually is normal-not wide as in chronic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1 ↓ reflecting failure of leaflets to close prope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2 may be widely split due to ↓ in LV ejection time and delay of S2P if pulmonary hypertensio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Murmur is systolic but its duration, quality, location and radiation depend on the component of the Mitral apparatus e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In most case pansystolic murmur starts with S1 and continues to S2.  It is heard best at apex and radiates to axilla or back, usually blowing and high pitched in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85800"/>
            <a:ext cx="81536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YPICAL MR MUR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en posterior leaflet involved due to prolapse or chordal rupture, murmur may radiate to sternum or base of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Anterior leaflet involvement in prolapse may be very loud and radiate to n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MV prolapse M may be harsh and be mid or late systolic,preceeded by a mid systolic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M of Pap.Muscle ischemia may be variable and become louder during an ischemic epis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Large diastolic volumes across valve may produce a diastolic murm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Secondary MR murmur may decrease with RX of C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No murmur,particularly if C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DIAGNOSTIC MANEUVERS ON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may  be louder when LV volume increases as in CHF or leg raising when s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when afterload increases ( squating or isometric handgrip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ofter when venous return is decreased as in standing or Valsal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P murmur is longer when patient stands and click moves closer to S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manifestations of MR.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e and severity of MR symptoms depends on th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progression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or chr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essure(or Pa wedge press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cardiac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CHOCARDIOGRAM IN MR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M mode and 2 D Echo (TTEorTEE) there is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L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LV and LV contraction pattern ( EF ↑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Mechanism of MR usually ident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Prolapse,endocarditis,Flail leaflet,RHD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Colorflow Doppler gives degree of M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Degree of MR is just an est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TE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TE is of poor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suspected and TTE is equiv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is suspected and TTE is negative  ( will sometimes see a vegetation with TEE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iac Cath.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recordings may show giant V waves in major acute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ulography done when Echo is poor and degree of MR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ngiography when ischemic heart disease susp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data may be helpful to decide whether symptoms are due to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ACUTE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n chord and acute primary MR may cause intractable pulmonary edema requiring MV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rupture in acute MI may require MVR if med R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with 4+ MR, surgery if patient can’t be stabilized me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idence of Mitral Regurgi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ingham study found mild MR present in 19% of men and woman (asymptoma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R, dependent on the study, is present from 0.2-1.9% of the general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Chronic Primary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may progress insidiously withou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HF occurs, surgery indic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in asymptomatic MR when ( 55 rule applies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systolic dimension approached 55mm or EF falls below 55% (older criteria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not performed in secondary MR but may be considered if MR 4+ and EF above 3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asymptomatic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LV size and 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nd systolic dimension approaches 55 mm ( now 40 m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F is falling and approaches 55% (now 6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er recommendations are based on the amount of MR. ( NEJM 3/3/2005, VOl. 352:875-883 ) .Pts with effective regurgitant orifice &gt; 40m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surg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eter techniques for secondary MR ? In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onsideration,elevated BNP levels may help in deciding whether to op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V SURGERY IN CHRONIC SEVERE MR ( 2006 guidelines) in JACC VOL.48,no.3,2006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surgery is beneficial for asymptomatic patients with chronic severe MR and mild to moderate LV dysfunction, 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0.30-60% and/or end-systolic dimension greater than or equal to 40mm. (level of evidenc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0600" y="371520"/>
            <a:ext cx="6561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19200" y="1189080"/>
            <a:ext cx="610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 Determination of outcomes in asymptomat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Valve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chanical valve  ie St. 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: longevity. Problem: Warfa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valve. Advantage: no Warfarin.Problem: longe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repair. Advantage: better LV function , no Warfarin,problem: may not be technically fea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for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op LV function is best predictor of long term morbidity and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l surgery for severe MR is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or surgery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t.with severe MR even if no symptoms,but good LV function,as long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op risk and chance for valve repai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ptomatic patients with NL EF but effective regurgitant orifice by Doppler is 40 mm squared or more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anatomy and outcome of MR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E and particularly TEE may be very helpful in deciding which valves can be repa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floppy valves are often good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calcified valves, ischemic MR and secondary ( functional ) MR patients are usually not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7239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ral Regurg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 Second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aiting for signs of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X or progressive dilatation in pt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severe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OP risk due to co-morbi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repair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cotic addicts with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choose MV Repair over MV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OP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long-term survi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preserved LV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incidence of thromboembolism,bleeding and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MV repair gaining popularity in 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urgical techniques and intraop 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ent pathology is degenerative disease, more repa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wh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↓ likelihood of repair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ular calcification,RHD and anterior leaflet dys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MV Repair Fail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ve related 6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otic/calcified leaflet or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erforated leaflets or ruptured ch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 related 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ure of chordae/leaflet repair or failure of ring annuloplas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Repair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ve repair techniques can be used on many patients with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 must be tailored for the individual valve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mortality is low, particularly with low risk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surgical intervention gives the best long term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atheter techniques are being developed for repair of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3760" y="-262080"/>
            <a:ext cx="9190080" cy="73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025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papillary m. dysfun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occurs with acut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occur wth anterior or inferior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occur with angina and then reso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complete rupture has a very high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10% of MI have MR by c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ate to severe in 3-4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CHO studies after MI show varying degrees of MR in +- 50 % of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ld patients and woman have a higher incidence.More common with larg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↓ with early reperfusion of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rgery ( MVR ) may be indicated and has a high morbidity and mort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8:52:05Z</dcterms:created>
  <dc:creator>wstullman</dc:creator>
  <dc:description/>
  <dc:language>en-US</dc:language>
  <cp:lastModifiedBy>wstullman</cp:lastModifiedBy>
  <dcterms:modified xsi:type="dcterms:W3CDTF">2010-01-11T19:34:20Z</dcterms:modified>
  <cp:revision>112</cp:revision>
  <dc:subject/>
  <dc:title>PowerPoint Presentation</dc:title>
</cp:coreProperties>
</file>